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16.wmf" ContentType="image/x-wmf"/>
  <Override PartName="/ppt/media/image27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jpeg" ContentType="image/jpeg"/>
  <Override PartName="/ppt/media/image29.wmf" ContentType="image/x-wmf"/>
  <Override PartName="/ppt/media/image17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AF359-73B3-495C-8631-92972F19F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53BE6-3A08-4067-A1EC-14CA81952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37968-5BA0-42F8-B8C0-D42A3FB2A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31898-5815-4510-9D63-1A0FC5F36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B374E-B1E6-4C9C-97FA-65B0EE5622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D3291-D93D-452D-9EBF-5F329BA888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A9346-E2E3-4485-A672-D8E734614A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E2631-4148-4FB9-A389-40DBBDD885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6A881-A28C-45A7-9616-993531B029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5084E-70B8-4F7B-9A2C-27B1BAD741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8170D-D2A8-4F29-B6D6-3DA9920093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33F3C-72AE-4A43-95FF-0C2422002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D8016-286C-42A8-A29F-5F888F3296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6AE84-CF7A-46F4-8F03-B5A4FBF717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41D70-D5E9-4A82-A0CC-AEA1C0EBC5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D61DC-E404-42F5-9DFF-33413FB39B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9D0E5-8EB9-4AD7-979D-6CD24353B0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AD114-93BF-4ECF-AD06-37B695B41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BB353-5E00-4F98-8C5C-C9BE44032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26AB-131C-4CA7-AA27-95F94C891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F8984-AD27-4243-A350-3254B9BF4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CF92E-00BF-472E-A1B6-5967DEFA4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0F464-0E25-41F4-851E-B2563D5EF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76C8B-2225-40DB-839F-C344FBE2D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C6820EB-DC8C-4AC7-A97F-B0887AB7B2F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3C69F97-275E-46BC-B5E1-56F4668A18D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346720" y="393840"/>
            <a:ext cx="3348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292720" y="399960"/>
            <a:ext cx="3564000" cy="540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BB4D38D-31CB-4DB6-9C6D-0E3601E7C2F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C6D1F13-A450-408B-A965-2A7A06555560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8-10-12T09:07:34Z</dcterms:modified>
  <cp:revision>314</cp:revision>
  <dc:subject/>
  <dc:title>REGRESSION ANALYSIS</dc:title>
</cp:coreProperties>
</file>